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D3A-F2BE-4D3A-A271-11911043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8CD-392B-4E28-B1D0-B87895FE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5E3-96A5-4345-A8B2-84617232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6BF-2396-4B3A-9B6E-93D1EFEA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3090-8079-4041-BB64-F5567FBF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4678-C9D9-411E-8897-8642BB11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1B00-4328-4EE7-9DE8-8B90D096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0230-045B-487B-9A00-F424C4C6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D88D-1C7A-4241-977B-77E15E52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FF3D-A7DE-4DB1-BE64-2D002BA4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F819-7DBD-445F-BEC5-70D4B1E0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B8A-3066-4083-AE6F-A55841EC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B655-A5A4-40A4-9A73-9B52B913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97C4-59C9-438F-A319-204F530F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29C3-F3B0-4C57-9251-21D78119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AB0A-F785-4E91-B2EF-E6244F9B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B4B5-8282-4E2B-A597-E90C2214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8E30-A393-4893-9F93-6662FE52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877BD-5075-4224-BED3-8F45B613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B0094-DE11-4EA7-AC37-8CC9CEED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81985-7AD5-435C-9B3F-3DBC0BDE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1C659-57DD-4B6C-9E96-283014C9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AE4-E672-4BA8-B306-76A495C3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2538-68DF-4613-8492-33F8B847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8EBB6-FDB2-47C3-A479-B2CBC701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2825-1E2D-4422-AB4B-70D5F23A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69F33-D703-446B-AF9B-3B6516A9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475A-119B-47EC-AFBD-C7D63406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063A8-9C00-46E8-A6D6-80747FE6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0040-9E82-46A5-A33E-915E6910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BA0DC-620A-4D58-85F2-16349E5F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F1F8B-3CF7-4EFB-863F-49F2829D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8F999-FDE2-470E-8773-FDA2B8FA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D65-A81B-4342-8751-339066CF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E9E34-0D64-4CFD-8E1D-61FC2F72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82038-3A0E-447D-B93B-FAE395BE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62BB1-EB9B-4A79-95D5-8D635372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7506-9CDA-4A8E-8EC3-6AD1D931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AD151-D997-478C-8915-28CB7C85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67B79-4ECA-47E3-85C5-A39A2BA6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20CDF-E687-4991-91B3-30EF3D91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27038-51C6-476B-8E5E-5A596F35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D53D4-77F5-47E6-9C04-7508F394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685CB-C9B8-4DD2-AE1E-73E54D7C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CB8-D5A5-4A69-987F-F200434E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0AE91-A94D-4D8C-8120-39D5DC60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CDCDD-F0A3-4D08-A61E-E65E522C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79148-BB7F-493D-B293-4EA33DE3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90B3B-59A8-4953-9763-31F14BD1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BCF11-30E4-4594-9515-4C68D969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D4460-E171-422F-9311-6751ED40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7F0DE-DB79-4940-AAD5-2AE64ADB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DA709-0A52-49D3-AF67-62D17AE6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A6B5D-B79B-4240-B200-3F3D32CA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F4F7E-5D85-42C8-83FE-841B5DB8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6F4-C099-4795-ABFC-6DFD124B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6A3E2-352F-4E6E-861F-94CEC599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10F12-6FAA-44D3-9D02-31D2BA60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F18FA-8759-475F-AF51-87CD1A84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95447-BBE3-4DDD-81F5-77C50CBF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05DDF-849B-43E9-882D-3970B31B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097FD-613B-4C75-BFE8-B70A2B18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AF8D3-420D-4281-8E0D-8F71C365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E2F6D-5948-4908-90C6-8ACEAB6C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CC3F0-D357-4B0F-BA7E-33EA1D82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01EB4-7E07-41FD-A698-8D273FF3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B90-FA87-4B72-B68A-40C5AE2E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BC7A9-70B1-4549-BE92-93EC181E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A8E7C-97BD-4F16-B9E3-C059BC08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A88D4-AEB8-4A94-81DE-438C9C6B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AFF1D-5DF3-4517-9622-935B7FB5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1C085-2588-4F21-9233-8810542B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50C99-2363-4B96-84F8-A93F9E46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5E89F-6494-4E2F-9CD5-3652045D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A1BFB-176D-42E5-B5B4-FC46E7BA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445B3-F01C-4F5C-A6ED-16135A85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2CCEC-5EF0-44C9-8EBC-72831C9A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C59-BCF3-44F6-B301-EB46C9AB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0CA7E-4AC8-411D-A409-AFCA495B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B7A4C-EEC3-40B0-A42C-04E1254D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C8DBD-EB53-4BA3-AFE6-954269D9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4E0EB-C823-436C-A06C-1C094CE5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EE445-50D6-45C6-BFB3-654A5762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0AF1B-CB92-4D6D-9785-BA6FBF80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52061-C6A7-4C80-A71C-31788DE3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8D781-DB76-48C7-9AF4-CF1D0E7D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45C69-41BD-46F0-A3F9-8480503F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418CF-746D-4213-A1CA-BFECC3C3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000-1F05-4465-B544-14371C49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F5D7C-EFB9-415F-A972-A7FC4B38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7FCC3-0125-4542-B0CC-A2186A5C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1432C-B7CD-461A-92DA-C8F8C2CF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F2E68-439B-44D4-8E40-BAFBA912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1436F-8D69-4E86-8F94-A54E6AE1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FF073-9D99-4235-A154-A450438B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120F0-9E6A-4DF0-A872-24443280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5271-DF5B-44BA-8192-C8A5512A84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D041-3519-43A0-BA74-17ED632779C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F6BE-3848-4832-9D81-F6B2C79E47A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A6AE-4162-4CDD-A0F4-84AA6578288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0D13-5089-4726-A4A4-9EDB08E1EF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9954-5E1D-4891-80B3-ABD349B6709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2D0F-B076-4E0E-B20E-2952B3DA6A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7283-03BD-4819-8C60-A8744503783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93560" y="1384200"/>
            <a:ext cx="83822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Мобу « Новочеркасская СОШ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Булдакова Л.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15+2=17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15-2=13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3 · 17 = 51км – расстояние по течению за три час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3· 13 = 39 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68 : 17 = 4 часа по теч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78 : 13 =6 к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) 17-13 = 4км/ча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5" descr="C:\Users\Любовь_2\Desktop\АВГУСТ - СЕНТЯБРЬ\КАРТИНКИ ПРЕЗ\img13.jpg"/>
          <p:cNvPicPr/>
          <p:nvPr/>
        </p:nvPicPr>
        <p:blipFill>
          <a:blip r:embed="rId2"/>
          <a:stretch/>
        </p:blipFill>
        <p:spPr>
          <a:xfrm>
            <a:off x="6143760" y="3857760"/>
            <a:ext cx="2286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арианты у вас на столе – приступайте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Любовь_2\Desktop\АВГУСТ - СЕНТЯБРЬ\КАРТИНКИ ПРЕЗ\sova.jpg"/>
          <p:cNvPicPr/>
          <p:nvPr/>
        </p:nvPicPr>
        <p:blipFill>
          <a:blip r:embed="rId2"/>
          <a:stretch/>
        </p:blipFill>
        <p:spPr>
          <a:xfrm>
            <a:off x="3571920" y="2428920"/>
            <a:ext cx="43336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9, 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Любовь_2\Desktop\АВГУСТ - СЕНТЯБРЬ\КАРТИНКИ ПРЕЗ\304610_html_337cb6c1.jpg"/>
          <p:cNvPicPr/>
          <p:nvPr/>
        </p:nvPicPr>
        <p:blipFill>
          <a:blip r:embed="rId2"/>
          <a:stretch/>
        </p:blipFill>
        <p:spPr>
          <a:xfrm>
            <a:off x="5072040" y="1714680"/>
            <a:ext cx="27813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27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5" name="Picture 2" descr="C:\Users\Любовь_2\Desktop\АВГУСТ - СЕНТЯБРЬ\КАРТИНКИ ПРЕЗ\18873_html_509959cc.jpg"/>
          <p:cNvPicPr/>
          <p:nvPr/>
        </p:nvPicPr>
        <p:blipFill>
          <a:blip r:embed="rId2"/>
          <a:stretch/>
        </p:blipFill>
        <p:spPr>
          <a:xfrm>
            <a:off x="500040" y="1143000"/>
            <a:ext cx="8183520" cy="4286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571680" y="1213920"/>
            <a:ext cx="4000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6952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ая соединительная линия 4"/>
          <p:cNvSpPr/>
          <p:nvPr/>
        </p:nvSpPr>
        <p:spPr>
          <a:xfrm>
            <a:off x="1714680" y="2571840"/>
            <a:ext cx="550044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Прямая соединительная линия 7"/>
          <p:cNvSpPr/>
          <p:nvPr/>
        </p:nvSpPr>
        <p:spPr>
          <a:xfrm>
            <a:off x="3500280" y="1643040"/>
            <a:ext cx="4429440" cy="22147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3429000" y="14288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Овал 9"/>
          <p:cNvSpPr/>
          <p:nvPr/>
        </p:nvSpPr>
        <p:spPr>
          <a:xfrm>
            <a:off x="3429000" y="1643040"/>
            <a:ext cx="71280" cy="460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7643880" y="3429000"/>
            <a:ext cx="5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6779880" y="25002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Прямая соединительная линия 13"/>
          <p:cNvSpPr/>
          <p:nvPr/>
        </p:nvSpPr>
        <p:spPr>
          <a:xfrm>
            <a:off x="2000160" y="3357720"/>
            <a:ext cx="3357720" cy="2357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Прямая соединительная линия 15"/>
          <p:cNvSpPr/>
          <p:nvPr/>
        </p:nvSpPr>
        <p:spPr>
          <a:xfrm flipV="1">
            <a:off x="1143000" y="4500360"/>
            <a:ext cx="5357880" cy="1143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Овал 16"/>
          <p:cNvSpPr/>
          <p:nvPr/>
        </p:nvSpPr>
        <p:spPr>
          <a:xfrm flipH="1">
            <a:off x="1999440" y="3357720"/>
            <a:ext cx="7164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17"/>
          <p:cNvSpPr/>
          <p:nvPr/>
        </p:nvSpPr>
        <p:spPr>
          <a:xfrm>
            <a:off x="2071800" y="292896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TextBox 18"/>
          <p:cNvSpPr/>
          <p:nvPr/>
        </p:nvSpPr>
        <p:spPr>
          <a:xfrm>
            <a:off x="4919040" y="51436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Овал 19"/>
          <p:cNvSpPr/>
          <p:nvPr/>
        </p:nvSpPr>
        <p:spPr>
          <a:xfrm>
            <a:off x="1214280" y="5643720"/>
            <a:ext cx="4608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TextBox 20"/>
          <p:cNvSpPr/>
          <p:nvPr/>
        </p:nvSpPr>
        <p:spPr>
          <a:xfrm>
            <a:off x="1143000" y="57150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Box 21"/>
          <p:cNvSpPr/>
          <p:nvPr/>
        </p:nvSpPr>
        <p:spPr>
          <a:xfrm>
            <a:off x="6204600" y="44290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Box 22"/>
          <p:cNvSpPr/>
          <p:nvPr/>
        </p:nvSpPr>
        <p:spPr>
          <a:xfrm>
            <a:off x="4214880" y="4714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волка -  у м/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 зайца – х м/ 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&gt; 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10: ( У-Х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ая соединительная линия 4"/>
          <p:cNvSpPr/>
          <p:nvPr/>
        </p:nvSpPr>
        <p:spPr>
          <a:xfrm flipV="1">
            <a:off x="857160" y="3571560"/>
            <a:ext cx="721512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Овал 5"/>
          <p:cNvSpPr/>
          <p:nvPr/>
        </p:nvSpPr>
        <p:spPr>
          <a:xfrm flipH="1" flipV="1">
            <a:off x="811080" y="3642480"/>
            <a:ext cx="46080" cy="71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99" name="Прямая со стрелкой 7"/>
          <p:cNvCxnSpPr/>
          <p:nvPr/>
        </p:nvCxnSpPr>
        <p:spPr>
          <a:xfrm>
            <a:off x="1000080" y="4285800"/>
            <a:ext cx="135792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0" name="TextBox 8"/>
          <p:cNvSpPr/>
          <p:nvPr/>
        </p:nvSpPr>
        <p:spPr>
          <a:xfrm>
            <a:off x="1357200" y="40006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Овал 9"/>
          <p:cNvSpPr/>
          <p:nvPr/>
        </p:nvSpPr>
        <p:spPr>
          <a:xfrm>
            <a:off x="3929040" y="3643200"/>
            <a:ext cx="46080" cy="142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02" name="Прямая со стрелкой 11"/>
          <p:cNvCxnSpPr/>
          <p:nvPr/>
        </p:nvCxnSpPr>
        <p:spPr>
          <a:xfrm flipV="1">
            <a:off x="4285800" y="3285360"/>
            <a:ext cx="1429560" cy="7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3" name="TextBox 13"/>
          <p:cNvSpPr/>
          <p:nvPr/>
        </p:nvSpPr>
        <p:spPr>
          <a:xfrm>
            <a:off x="4457160" y="3071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Дуга 14"/>
          <p:cNvSpPr/>
          <p:nvPr/>
        </p:nvSpPr>
        <p:spPr>
          <a:xfrm>
            <a:off x="857160" y="3643200"/>
            <a:ext cx="46080" cy="7164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Дуга 15"/>
          <p:cNvSpPr/>
          <p:nvPr/>
        </p:nvSpPr>
        <p:spPr>
          <a:xfrm>
            <a:off x="857160" y="3714840"/>
            <a:ext cx="71640" cy="46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Круговая стрелка 16"/>
          <p:cNvSpPr/>
          <p:nvPr/>
        </p:nvSpPr>
        <p:spPr>
          <a:xfrm>
            <a:off x="857160" y="3357720"/>
            <a:ext cx="3214800" cy="35712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Box 17"/>
          <p:cNvSpPr/>
          <p:nvPr/>
        </p:nvSpPr>
        <p:spPr>
          <a:xfrm>
            <a:off x="2286000" y="30002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0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2428920" y="38577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А)( у – х )м/ми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357120" y="1428840"/>
          <a:ext cx="8229600" cy="4690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а+3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а-2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</a:tbl>
          </a:graphicData>
        </a:graphic>
      </p:graphicFrame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10:10      1200:100      150:10    245000:1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00  ·100     82 · 1000  750 ·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одной стопке  35 тетр, а в другой 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 раза &gt;, на 15 &gt;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нига стоит 120 руб, альбом в 2 раза дешевл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лько стоит альбом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Построить прямую АВ; на отрезке АВ отметить  точку С, через С провести прямую с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Прямую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 L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и отрезок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N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пересекающиеся в точке  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Построить пересекающиеся прямые АВ и СД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 построить лучи  АК, АМ, А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течения реки -2км/ч, собственная скорость  катера 15 км/час. Составьте выражения и найти их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скорость катера  при движении по вод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против движения вод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 расстояние которое пройдет катер за три часа по течению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расстояние за три часа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время  на прохождение 68км по течению ре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время на прохождение 78 км при движении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на сколько скорость катера по течению больше скорости против теч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7:09:18Z</dcterms:created>
  <dc:creator>Любовь</dc:creator>
  <dc:description/>
  <dc:language>en-US</dc:language>
  <cp:lastModifiedBy>Любовь</cp:lastModifiedBy>
  <dcterms:modified xsi:type="dcterms:W3CDTF">2015-09-22T18:40:22Z</dcterms:modified>
  <cp:revision>2</cp:revision>
  <dc:subject/>
  <dc:title>Урок математики в 5классе по теме « Прямая, отрезок и луч»</dc:title>
</cp:coreProperties>
</file>